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18A-2FE9-4F33-80FA-CC33F419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2E2-50A7-4208-AD78-C763F0FE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EF7-E667-4659-8644-48C3EF43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238-427E-4E10-92CF-93233709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290-291B-4811-9C09-6B00A039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B5A-ECE8-4924-9A6E-7294AF4D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634-3747-4D9B-BA07-8EFF6F26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151-DA35-4634-B7A4-E44F33BE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170-9248-40D3-92BE-023DE7D4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8DC-77D0-47C2-81A8-8F38BED0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0D0-702A-483B-A7BC-0470BDB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C84-B63D-4A7A-B2DB-E577E204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CF99-0D9F-4761-A07F-C778FED89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Datab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ger Conn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Need a Datab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Engines are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Exe and/or D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s are Rel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Need a Datab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phi interfaces with Databases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number of data awa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changing applic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ase Acces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“Wri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are rea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 update the “Databas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bjects Held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Memory is as big as Free Disk Sp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 does Memor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e lo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Objec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Business Objec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284640"/>
            <a:ext cx="27367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usiness  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PersistFile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55640" y="2852640"/>
            <a:ext cx="3745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492360" y="2852640"/>
            <a:ext cx="518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4797360"/>
            <a:ext cx="374508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797360"/>
            <a:ext cx="51832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2852640"/>
            <a:ext cx="4174920" cy="374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/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istent BO Data achieved in two Complementary overrides of Load and 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O.Load(S:TSt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herit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.Read(FData1,SizeOf (FData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.Read(FData2,SizeOf (FData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O.Store(S:TSt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herit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.Write(FData1,SizeOf (FData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.Write(FData2,SizeOf (FData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5950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BO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ject Type &amp; Vers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Change or Set Mod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ream Helpers (Prot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StrmObject &amp; WriteStrm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StrmList &amp; WriteStrm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StrmListAsIntegers &amp;       WriteStrmListAs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StrmGraphic &amp; WriteStrmGraph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StrmString &amp; WriteStrmSt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User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more than one user or instance writes to the Db/File/Persistenc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users need to be Up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locks so only one change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 File, “Table” or “Rec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y case lock only “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 policy determined by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2637000"/>
            <a:ext cx="1873080" cy="24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2852640"/>
            <a:ext cx="187344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1774800"/>
            <a:ext cx="187344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2133720"/>
            <a:ext cx="1873440" cy="20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Bl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0" y="4222800"/>
            <a:ext cx="1873440" cy="20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Bl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4520" y="127008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1774800"/>
            <a:ext cx="18730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360" y="12682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ndex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2133720"/>
            <a:ext cx="1873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1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494080"/>
            <a:ext cx="1873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2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2854440"/>
            <a:ext cx="1873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3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0000" y="3214800"/>
            <a:ext cx="1873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4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80000" y="3575160"/>
            <a:ext cx="1873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5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651640" y="2133360"/>
            <a:ext cx="1152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2638440"/>
            <a:ext cx="1152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04000" y="6310440"/>
            <a:ext cx="1873440" cy="5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Bl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2998800"/>
            <a:ext cx="115236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869000"/>
            <a:ext cx="18730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997360"/>
            <a:ext cx="1873080" cy="24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2360" y="43657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3640" y="170028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7:39:57Z</dcterms:created>
  <dc:creator>.</dc:creator>
  <dc:description/>
  <dc:language>en-US</dc:language>
  <cp:lastModifiedBy>.</cp:lastModifiedBy>
  <dcterms:modified xsi:type="dcterms:W3CDTF">2002-05-10T03:06:36Z</dcterms:modified>
  <cp:revision>9</cp:revision>
  <dc:subject/>
  <dc:title>An Object Database?</dc:title>
</cp:coreProperties>
</file>